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jpeg" ContentType="image/jpeg"/>
  <Override PartName="/ppt/media/12.%20El%20Progreso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435-2B6A-4A59-86A2-ABEEE09C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65D0-7667-4965-BC46-92C3A896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A9CE-9E60-4B3B-B545-6653D317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132-D038-4373-B576-8B635F70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94E-41D4-41CD-BBF7-21C3F71A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6C77-18C2-497A-9210-4AB67727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AB8-D049-45E5-90B8-48D379F0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1D5-A675-4755-B0B0-C48418FF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ECD-393F-46AB-979B-79F955E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908-0157-42AE-A7B1-60605661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8D0-F01B-45F1-8DD2-FDECA3D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426-5398-40ED-83A1-C28C6EFB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5256-8C7D-4C6E-9CB5-A88460D8F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2.%20El%20Progre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7000" y="36878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Roberto C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2362320"/>
            <a:ext cx="495288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El Progres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fade/>
    <p:sndAc>
      <p:stSnd>
        <p:snd r:embed="rId2" name="12.%20El%20Progre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20574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Yo quisiera no ver tanto verde</a:t>
            </a:r>
            <a:br>
              <a:rPr sz="2800"/>
            </a:b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en la tierra mu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9810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 en las aguas de ríos los peces desapareciendo.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9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gritar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e tal oro negr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es más que un negro vene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5120" y="213372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Ya sabemos que por t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eso vivimos ya menos.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48006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puedo aceptar ciertas cosa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e ya no compr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200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 comercio de armas, de guer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muertes viv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4114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o quisiera hablar de aleg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 vez de tristeza, mas no soy ca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1240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como los ani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2895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3760" y="29210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poder aplac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 fiera terr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8680" y="495288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8862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2760" y="502920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 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0" y="3276720"/>
            <a:ext cx="56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Yo quisiera poder transform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tanta cosa impo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3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Yo quisiera dec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tantas cosas que pudieran hacerme sentir bien con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1280" y="4722840"/>
            <a:ext cx="41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po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razar mi mayor ene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360" y="205740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Yo quisiera no ver tantas nu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oscuras ar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3240" y="205596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Navegar sin hallar tantas manc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de aceite en los m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ballenas desapareciend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r falta de escrúpulos comer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514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ser civiliz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los anim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15:05Z</dcterms:created>
  <dc:creator>Sylvette Rivera</dc:creator>
  <dc:description/>
  <dc:language>en-US</dc:language>
  <cp:lastModifiedBy>MONICA PFEIFFER</cp:lastModifiedBy>
  <dcterms:modified xsi:type="dcterms:W3CDTF">2007-06-20T13:27:40Z</dcterms:modified>
  <cp:revision>17</cp:revision>
  <dc:subject/>
  <dc:title>Diapositiva 1</dc:title>
</cp:coreProperties>
</file>