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jpeg" ContentType="image/jpeg"/>
  <Override PartName="/ppt/media/12.%20El%20Progreso.wav" ContentType="audio/x-wav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6C0-3BBF-4283-BBBB-04A32C0E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29B-462F-49D5-A4B3-192E887A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C83-463C-419A-A77E-05D2C71D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6AE-268B-40F4-9172-C37E4C95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06A-B5E4-447A-80E8-8C2F2B3A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2B3-42CD-45A9-86C8-AFDC4723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AF6-AB3B-45FE-8E75-B43CBFAB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096-933A-4484-86EB-1F9FB6F7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B7E0-ECA8-44C7-9501-61775371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3F3A-BE8B-465A-9B05-31EBDD45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EFBB-1201-48FD-9907-715831F0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99C-4610-4EC9-8D00-2A8EACB1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07E5-181D-4AD5-B3A0-62E1389534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2.%20El%20Progres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7000" y="368784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Script MT Bold"/>
              </a:rPr>
              <a:t>Roberto Car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2362320"/>
            <a:ext cx="495288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Times New Roman"/>
              </a:rPr>
              <a:t>El Progreso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Times New Roman"/>
              <a:ea typeface="Times New Roman"/>
            </a:endParaRPr>
          </a:p>
        </p:txBody>
      </p:sp>
    </p:spTree>
  </p:cSld>
  <p:transition spd="slow" advTm="5000">
    <p:fade/>
    <p:sndAc>
      <p:stSnd>
        <p:snd r:embed="rId2" name="12.%20El%20Progres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20574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Yo quisiera no ver tanto verde</a:t>
            </a:r>
            <a:br>
              <a:rPr sz="2800"/>
            </a:b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en la tierra murien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1981080"/>
            <a:ext cx="656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Y en las aguas de ríos los peces desapareciendo.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9520" y="38098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gritar 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se tal oro negro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 es más que un negro vene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5120" y="2133720"/>
            <a:ext cx="39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Ya sabemos que por to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eso vivimos ya menos.</a:t>
            </a:r>
            <a:r>
              <a:rPr b="0" lang="en-US" sz="1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00200" y="480060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puedo aceptar ciertas cosa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ue ya no compren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3200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 comercio de armas, de guerr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 muertes vivien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41148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Yo quisiera hablar de alegrí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en vez de tristeza, mas no soy capa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1280" y="31240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9"/>
                </a:solidFill>
                <a:latin typeface="Arial"/>
              </a:rPr>
              <a:t>Yo quisiera ser civiliz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9"/>
                </a:solidFill>
                <a:latin typeface="Arial"/>
              </a:rPr>
              <a:t>como los anim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ser civilizado 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29000" y="28954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ser civilizado 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73760" y="2921040"/>
            <a:ext cx="462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poder aplac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na fiera terr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43000"/>
            <a:ext cx="58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estoy contra el progreso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existiera un buen cons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78680" y="4952880"/>
            <a:ext cx="395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rores no corrigen otr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so es lo que pi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00200" y="3886200"/>
            <a:ext cx="58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estoy contra el progreso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existiera un buen cons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2760" y="5029200"/>
            <a:ext cx="71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rores no corrigen otros, eso es lo que pi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24400" y="3276720"/>
            <a:ext cx="561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9"/>
                </a:solidFill>
                <a:latin typeface="Arial"/>
              </a:rPr>
              <a:t>Yo quisiera poder transform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9"/>
                </a:solidFill>
                <a:latin typeface="Arial"/>
              </a:rPr>
              <a:t>tanta cosa impo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934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Yo quisiera deci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tantas cosas que pudieran hacerme sentir bien con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1280" y="4722840"/>
            <a:ext cx="41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pod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razar mi mayor ene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360" y="2057400"/>
            <a:ext cx="48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a953"/>
                </a:solidFill>
                <a:latin typeface="Arial"/>
              </a:rPr>
              <a:t>Yo quisiera no ver tantas nub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a953"/>
                </a:solidFill>
                <a:latin typeface="Arial"/>
              </a:rPr>
              <a:t>oscuras ar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83240" y="2055960"/>
            <a:ext cx="519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Navegar sin hallar tantas manch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de aceite en los m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19810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 ballenas desapareciendo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or falta de escrúpulos comerci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6720" y="251460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Yo quisiera ser civiliz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33920" y="49528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ser civiliz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o los anim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0:15:05Z</dcterms:created>
  <dc:creator>Sylvette Rivera</dc:creator>
  <dc:description/>
  <dc:language>en-US</dc:language>
  <cp:lastModifiedBy>MONICA PFEIFFER</cp:lastModifiedBy>
  <dcterms:modified xsi:type="dcterms:W3CDTF">2007-06-20T13:27:40Z</dcterms:modified>
  <cp:revision>17</cp:revision>
  <dc:subject/>
  <dc:title>Diapositiva 1</dc:title>
</cp:coreProperties>
</file>