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4.jpeg" ContentType="image/jpeg"/>
  <Override PartName="/ppt/media/12.%20El%20Progreso.wav" ContentType="audio/x-wav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CF2B-EBD5-4C9C-8109-B449C077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CBD4-A467-422B-94FB-D0A65250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D5BC-F20D-4756-904B-2E42C434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1750-14BC-4EE5-90F1-73DD267D3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C50D-F02F-463D-A891-1E162B98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B5CE-C845-4721-B59A-4DC9DCA7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51C0-EFE6-4D6F-8BBD-833713E5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EEC8-3913-41A8-9BA1-5AF91BC0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8109-5B39-41E6-999E-E31DDF54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E44D-1BBA-412C-81E8-812600CA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D7D8-F67C-44B0-B9F3-55BCDBD9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2806-DF51-4AB5-A3C6-C68DE68E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0EE8-708A-4B46-80CA-9D540CD773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12.%20El%20Progres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97000" y="3687840"/>
            <a:ext cx="302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Script MT Bold"/>
              </a:rPr>
              <a:t>Roberto Car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057400" y="2362320"/>
            <a:ext cx="4952880" cy="12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Times New Roman"/>
              </a:rPr>
              <a:t>El Progreso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Times New Roman"/>
              <a:ea typeface="Times New Roman"/>
            </a:endParaRPr>
          </a:p>
        </p:txBody>
      </p:sp>
    </p:spTree>
  </p:cSld>
  <p:transition spd="slow" advTm="5000">
    <p:fade/>
    <p:sndAc>
      <p:stSnd>
        <p:snd r:embed="rId2" name="12.%20El%20Progres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95280" y="205740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Yo quisiera no ver tanto verde</a:t>
            </a:r>
            <a:br>
              <a:rPr sz="2800"/>
            </a:b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en la tierra muriend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19320" y="1981080"/>
            <a:ext cx="656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Y en las aguas de ríos los peces desapareciendo.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19520" y="38098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o quisiera gritar q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se tal oro negro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o es más que un negro vene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15120" y="2133720"/>
            <a:ext cx="390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fd293"/>
                </a:solidFill>
                <a:latin typeface="Arial"/>
              </a:rPr>
              <a:t>Ya sabemos que por to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dfd293"/>
                </a:solidFill>
                <a:latin typeface="Arial"/>
              </a:rPr>
              <a:t>eso vivimos ya menos.</a:t>
            </a:r>
            <a:r>
              <a:rPr b="0" lang="en-US" sz="18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00200" y="4800600"/>
            <a:ext cx="59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o no puedo aceptar ciertas cosas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ue ya no compren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76520" y="3200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l comercio de armas, de guerr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e muertes viviend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76520" y="411480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Yo quisiera hablar de alegrí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en vez de tristeza, mas no soy capa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1280" y="312408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9"/>
                </a:solidFill>
                <a:latin typeface="Arial"/>
              </a:rPr>
              <a:t>Yo quisiera ser civiliza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9"/>
                </a:solidFill>
                <a:latin typeface="Arial"/>
              </a:rPr>
              <a:t>como los animal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274320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Yo quisiera ser civilizado como los anim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29000" y="289548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Yo quisiera ser civilizado como los anim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73760" y="2921040"/>
            <a:ext cx="462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Yo quisiera poder aplac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una fiera terr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143000"/>
            <a:ext cx="588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o no estoy contra el progreso,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i existiera un buen consen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78680" y="4952880"/>
            <a:ext cx="395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rrores no corrigen otr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so es lo que pien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00200" y="3886200"/>
            <a:ext cx="588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o no estoy contra el progreso,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i existiera un buen consen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22760" y="5029200"/>
            <a:ext cx="71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rrores no corrigen otros, eso es lo que pien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24400" y="3276720"/>
            <a:ext cx="561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9"/>
                </a:solidFill>
                <a:latin typeface="Arial"/>
              </a:rPr>
              <a:t>Yo quisiera poder transform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9"/>
                </a:solidFill>
                <a:latin typeface="Arial"/>
              </a:rPr>
              <a:t>tanta cosa impos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29348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cc"/>
                </a:solidFill>
                <a:latin typeface="Arial"/>
              </a:rPr>
              <a:t>Yo quisiera deci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cc"/>
                </a:solidFill>
                <a:latin typeface="Arial"/>
              </a:rPr>
              <a:t>tantas cosas que pudieran hacerme sentir bien conmig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91280" y="4722840"/>
            <a:ext cx="412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o quisiera pod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brazar mi mayor enemig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360" y="2057400"/>
            <a:ext cx="487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a953"/>
                </a:solidFill>
                <a:latin typeface="Arial"/>
              </a:rPr>
              <a:t>Yo quisiera no ver tantas nub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a953"/>
                </a:solidFill>
                <a:latin typeface="Arial"/>
              </a:rPr>
              <a:t>oscuras arrib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83240" y="2055960"/>
            <a:ext cx="519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cc"/>
                </a:solidFill>
                <a:latin typeface="Arial"/>
              </a:rPr>
              <a:t>Navegar sin hallar tantas manch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cc"/>
                </a:solidFill>
                <a:latin typeface="Arial"/>
              </a:rPr>
              <a:t>de aceite en los ma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19810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 ballenas desapareciendo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or falta de escrúpulos comercia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76720" y="251460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Yo quisiera ser civiliza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como los anim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733920" y="495288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o quisiera ser civilizad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mo los anima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7T00:15:05Z</dcterms:created>
  <dc:creator>Sylvette Rivera</dc:creator>
  <dc:description/>
  <dc:language>en-US</dc:language>
  <cp:lastModifiedBy>MONICA PFEIFFER</cp:lastModifiedBy>
  <dcterms:modified xsi:type="dcterms:W3CDTF">2007-06-20T13:27:40Z</dcterms:modified>
  <cp:revision>17</cp:revision>
  <dc:subject/>
  <dc:title>Diapositiva 1</dc:title>
</cp:coreProperties>
</file>