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Corcovado%20(Quiet%20Nights)%20-%20Astrud%20Gilberto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1C4-DB06-43F4-9575-2DCA6830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BD7-3CDA-4949-8B23-44C0D46A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B35-8E84-43C1-AB0C-21A83267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6D1-1673-445C-88DD-DF3DDE6D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5DD-BEF1-4ED2-8B67-7418E092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DE7-224D-497F-A6C2-781B9CAB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7251-FA02-44D3-B9E7-BD31598E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B86-5947-4406-8202-0C4887E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F3F-F5C2-404D-99F5-33F80418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E6E-E4C5-4960-B10B-9BF57A3D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EBE-32E0-4579-AF39-631B36E3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E87-81AA-4814-BD1E-0B11DC11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9B6-8D19-47D5-B0D7-F9FF62DDCC9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covado%20(Quiet%20Nights)%20-%20Astrud%20Gilber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Cristo Redento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Río de Janeiro, Brasil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825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n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iete Nuevas Maravillas d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orcovado%20(Quiet%20Nights)%20-%20Astrud%20Gilber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43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¡Qué bellez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4515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81680" y="1371600"/>
            <a:ext cx="2362320" cy="419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La estatua tien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ltura de 125 p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(38 metros) y est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situada en la c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la montaña Corcov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 2,330 pies (710 metr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a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layas Copacabana &amp; Ipanema..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07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0"/>
            <a:ext cx="622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La capa exterior de la estatua esta compuesta de esteatita, que es re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a elevadas temperaturas y a la intemper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rcRect l="0" t="0" r="24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6400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6000" y="1844640"/>
            <a:ext cx="6912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 regalo de brasil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el mundo!!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La Estatua de Cristo Redentor en la cima de la montaña de Corcovado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bendiciendo la ciudad de Rí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2491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68560" y="336708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Pan de Azú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4680" y="2757600"/>
            <a:ext cx="69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Corcov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e llega por coche o por teleférico, atravesando el bos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qui se puede divisar el camino hacia la c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Vista desde la cima de Pão de Açú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4876920"/>
            <a:ext cx="190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oten que la luna parece estar boca-abajo en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6237360"/>
            <a:ext cx="180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La foto NO es un mont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3:55:29Z</dcterms:created>
  <dc:creator/>
  <dc:description/>
  <dc:language>en-US</dc:language>
  <cp:lastModifiedBy>S</cp:lastModifiedBy>
  <dcterms:modified xsi:type="dcterms:W3CDTF">2007-11-27T21:10:59Z</dcterms:modified>
  <cp:revision>67</cp:revision>
  <dc:subject/>
  <dc:title/>
</cp:coreProperties>
</file>