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Corcovado%20(Quiet%20Nights)%20-%20Astrud%20Gilberto.wav" ContentType="audio/x-wav"/>
  <Override PartName="/ppt/media/image16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020-EC55-4E46-AA4D-10CC7D6E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C2C-A065-482E-A57D-4E256FF5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9F2-8891-425C-AA72-93FFD0EC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8D1-02EB-4322-8349-D4860419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655-B312-4E1A-A575-DC1906BF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8A2-8A6B-4B89-A158-2B912B1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D0E-3EF4-4F77-A3CC-6A69D64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AC3-94D5-4163-ADBC-D9B6D8E9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B9BE-4E87-4F68-A7B3-79CC5A55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72E-6B3E-470B-BCD6-D87364C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944-FB4E-4E05-9E32-FB2A901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081-F938-484A-8C4C-5A9897AE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4773-AAE7-4208-9E4B-BB71CFDA829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rcovado%20(Quiet%20Nights)%20-%20Astrud%20Gilbert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Cristo Redentor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663300"/>
                </a:solidFill>
                <a:latin typeface="Comic Sans MS"/>
              </a:rPr>
              <a:t>Río de Janeiro, Brasil</a:t>
            </a: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8254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n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Siete Nuevas Maravillas del M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orcovado%20(Quiet%20Nights)%20-%20Astrud%20Gilbert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16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4310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¡Qué bellez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14440" y="0"/>
            <a:ext cx="4515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81680" y="1371600"/>
            <a:ext cx="2362320" cy="4191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La estatua tiene 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ltura de 125 p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(38 metros) y est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situada en la c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la montaña Corcov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a 2,330 pies (710 metr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de al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Playas Copacabana &amp; Ipanema..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079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61960" y="0"/>
            <a:ext cx="622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40080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La capa exterior de la estatua esta compuesta de esteatita, que es resis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a elevadas temperaturas y a la intemperi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contrast="18000"/>
          </a:blip>
          <a:srcRect l="0" t="0" r="249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934320" y="6400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16000" y="1844640"/>
            <a:ext cx="6912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un regalo de brasil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ara el mundo!!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La Estatua de Cristo Redentor en la cima de la montaña de Corcovado</a:t>
            </a:r>
            <a:r>
              <a:rPr b="0" lang="en-AU" sz="1400" spc="-1" strike="noStrike">
                <a:solidFill>
                  <a:srgbClr val="ffffff"/>
                </a:solidFill>
                <a:latin typeface="Comic Sans MS"/>
              </a:rPr>
              <a:t>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2503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... bendiciendo la ciudad de Rí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2491" b="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68560" y="3367080"/>
            <a:ext cx="86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Pan de Azúc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4680" y="2757600"/>
            <a:ext cx="69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Comic Sans MS"/>
              </a:rPr>
              <a:t>Corcovad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2497" b="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Se llega por coche o por teleférico, atravesando el bos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omic Sans MS"/>
              </a:rPr>
              <a:t>Aqui se puede divisar el camino hacia la ci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Vista desde la cima de Pão de Açúc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340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38880" y="4876920"/>
            <a:ext cx="190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Comic Sans MS"/>
              </a:rPr>
              <a:t>Noten que la luna parece estar boca-abajo en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6237360"/>
            <a:ext cx="180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00"/>
                </a:solidFill>
                <a:latin typeface="Comic Sans MS"/>
              </a:rPr>
              <a:t>La foto NO es un montaj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23:55:29Z</dcterms:created>
  <dc:creator/>
  <dc:description/>
  <dc:language>en-US</dc:language>
  <cp:lastModifiedBy>S</cp:lastModifiedBy>
  <dcterms:modified xsi:type="dcterms:W3CDTF">2007-11-27T21:10:59Z</dcterms:modified>
  <cp:revision>67</cp:revision>
  <dc:subject/>
  <dc:title/>
</cp:coreProperties>
</file>