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2.png" ContentType="image/png"/>
  <Override PartName="/ppt/media/image4.jpeg" ContentType="image/jpeg"/>
  <Override PartName="/ppt/media/image26.jpeg" ContentType="image/jpeg"/>
  <Override PartName="/ppt/media/image5.jpeg" ContentType="image/jpeg"/>
  <Override PartName="/ppt/media/image33.jpeg" ContentType="image/jpeg"/>
  <Override PartName="/ppt/media/image6.jpeg" ContentType="image/jpeg"/>
  <Override PartName="/ppt/media/image34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43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46.jpeg" ContentType="image/jpeg"/>
  <Override PartName="/ppt/media/image30.jpeg" ContentType="image/jpeg"/>
  <Override PartName="/ppt/media/image47.jpeg" ContentType="image/jpeg"/>
  <Override PartName="/ppt/media/image31.jpeg" ContentType="image/jpeg"/>
  <Override PartName="/ppt/media/image48.jpeg" ContentType="image/jpeg"/>
  <Override PartName="/ppt/media/image32.jpeg" ContentType="image/jpeg"/>
  <Override PartName="/ppt/media/image49.jpeg" ContentType="image/jpeg"/>
  <Override PartName="/ppt/media/image40.jpeg" ContentType="image/jpeg"/>
  <Override PartName="/ppt/media/image13.jpeg" ContentType="image/jpeg"/>
  <Override PartName="/ppt/media/image28.jpeg" ContentType="image/jpeg"/>
  <Override PartName="/ppt/media/image51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52.jpeg" ContentType="image/jpeg"/>
  <Override PartName="/ppt/media/image12.jpeg" ContentType="image/jpeg"/>
  <Override PartName="/ppt/media/image27.jpeg" ContentType="image/jpeg"/>
  <Override PartName="/ppt/media/image50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660CB-51E5-4361-B3A0-D99E47B40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5871A-EFCC-4918-8052-599C0ED40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A0407-374D-4EF7-A4AC-B380FC3B4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70ED4-54F5-435B-99FA-FF75BB2FC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91D47-ADEA-4826-B482-C68EB3BD5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5855F-FAC6-4595-8E4B-7C65296AC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6DABE-D0A2-46E7-96FA-32E42F225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CEA09-F8FF-4027-9405-BF17B9D74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A31E1-96AA-4BFE-B886-B0C8FB7F3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31A22-D57C-4CE8-8784-5C73AA7EF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FC0B8-99BC-40CB-814D-301F2E5EC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5F8C8-1C0B-44D1-8928-BAA242215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600C2-9257-4AEB-8406-B3F7E6D390FB}" type="slidenum">
              <a:rPr b="0" lang="pt-P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file:///tmp/home/.config/libreoffice/4/user/gallery/Enya%20-%20Amarantine%20-%2009%20-%20A%20Moment%20Lost.wav" TargetMode="External"/><Relationship Id="rId3" Type="http://schemas.microsoft.com/office/2007/relationships/media" Target="file:///tmp/home/.config/libreoffice/4/user/gallery/Enya%20-%20Amarantine%20-%2009%20-%20A%20Moment%20Lost.wav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2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2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2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2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2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2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2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2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2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82920" y="3141720"/>
            <a:ext cx="2446560" cy="25192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897120" y="549360"/>
            <a:ext cx="7648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7200" spc="-1" strike="noStrike">
                <a:solidFill>
                  <a:srgbClr val="ffffff"/>
                </a:solidFill>
                <a:latin typeface="Britannic Bold"/>
              </a:rPr>
              <a:t>Afrique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7200" spc="-1" strike="noStrike">
                <a:solidFill>
                  <a:srgbClr val="ffffff"/>
                </a:solidFill>
                <a:latin typeface="Britannic Bold"/>
              </a:rPr>
              <a:t>La Magnifi</a:t>
            </a:r>
            <a:r>
              <a:rPr b="1" lang="pt-PT" sz="7200" spc="-1" strike="noStrike">
                <a:solidFill>
                  <a:srgbClr val="ffffff"/>
                </a:solidFill>
                <a:latin typeface="Britannic Bold"/>
              </a:rPr>
              <a:t>	</a:t>
            </a:r>
            <a:r>
              <a:rPr b="1" lang="pt-PT" sz="7200" spc="-1" strike="noStrike">
                <a:solidFill>
                  <a:srgbClr val="ffffff"/>
                </a:solidFill>
                <a:latin typeface="Britannic Bold"/>
              </a:rPr>
              <a:t>que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276360" y="5805360"/>
            <a:ext cx="271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ffffff"/>
                </a:solidFill>
                <a:latin typeface="Arial"/>
              </a:rPr>
              <a:t>Photos en noir et blan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t-PT" sz="1800" spc="-1" strike="noStrike">
                <a:solidFill>
                  <a:srgbClr val="ffffff"/>
                </a:solidFill>
                <a:latin typeface="Arial"/>
              </a:rPr>
              <a:t>de Nick Brand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244000" y="60930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4"/>
                </p:tgtEl>
              </p:cMediaNode>
            </p:audio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136520" y="7920"/>
            <a:ext cx="6842160" cy="68421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1349280"/>
            <a:ext cx="9144000" cy="41245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907920"/>
            <a:ext cx="9144000" cy="41958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760400" y="0"/>
            <a:ext cx="55944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277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36520" y="1440"/>
            <a:ext cx="8642520" cy="68835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328760" y="-1440"/>
            <a:ext cx="6459480" cy="68608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100160" y="1440"/>
            <a:ext cx="6913440" cy="68914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01760" y="-6480"/>
            <a:ext cx="8313480" cy="68724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-14400" y="204840"/>
            <a:ext cx="9144000" cy="64213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917720" y="-1440"/>
            <a:ext cx="5280120" cy="68608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1430280"/>
            <a:ext cx="9144000" cy="39718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452520"/>
            <a:ext cx="9144000" cy="59436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955800"/>
            <a:ext cx="9144000" cy="49068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853920"/>
            <a:ext cx="9144000" cy="51102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93680" y="15840"/>
            <a:ext cx="8713800" cy="67993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595440" y="0"/>
            <a:ext cx="7921440" cy="6831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33360" y="0"/>
            <a:ext cx="8458200" cy="68216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133640" y="0"/>
            <a:ext cx="684972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279360" y="0"/>
            <a:ext cx="856944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141560" y="0"/>
            <a:ext cx="683388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84320" y="11160"/>
            <a:ext cx="8746920" cy="68374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285840" y="0"/>
            <a:ext cx="857232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341280"/>
            <a:ext cx="9144000" cy="61261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595440" y="0"/>
            <a:ext cx="7937280" cy="68166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276120"/>
            <a:ext cx="9144000" cy="62787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150920" y="-1440"/>
            <a:ext cx="6815160" cy="68608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542960" y="0"/>
            <a:ext cx="602928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1101600" y="12600"/>
            <a:ext cx="6912000" cy="68342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536840" y="0"/>
            <a:ext cx="604332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289080" y="3240"/>
            <a:ext cx="8537400" cy="68533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285840" y="1028880"/>
            <a:ext cx="8572320" cy="48006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680" y="128520"/>
            <a:ext cx="9105840" cy="65721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474840" y="0"/>
            <a:ext cx="8165880" cy="68436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822320" y="0"/>
            <a:ext cx="547236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1109520"/>
            <a:ext cx="9144000" cy="45817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819440" y="0"/>
            <a:ext cx="547812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987560" y="-1440"/>
            <a:ext cx="5140440" cy="68608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127160" y="-1440"/>
            <a:ext cx="6862680" cy="68626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590400" y="7920"/>
            <a:ext cx="7934400" cy="68436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95360" y="0"/>
            <a:ext cx="8137440" cy="68277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133640" y="0"/>
            <a:ext cx="684972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135080" y="11160"/>
            <a:ext cx="6845400" cy="68374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1285920"/>
            <a:ext cx="9144000" cy="42163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1413000"/>
            <a:ext cx="9144000" cy="38304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468360" y="1628640"/>
            <a:ext cx="6114960" cy="48024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 txBox="1"/>
          <p:nvPr/>
        </p:nvSpPr>
        <p:spPr>
          <a:xfrm>
            <a:off x="6156360" y="907920"/>
            <a:ext cx="2330280" cy="1879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5840">
                  <a:solidFill>
                    <a:srgbClr val="808080"/>
                  </a:solidFill>
                  <a:miter/>
                </a:ln>
                <a:solidFill>
                  <a:srgbClr val="ffffff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Smudger LET"/>
              </a:rPr>
              <a:t>Fin</a:t>
            </a:r>
            <a:endParaRPr b="0" lang="en-US" sz="1800" spc="1" strike="noStrike">
              <a:ln w="15840">
                <a:solidFill>
                  <a:srgbClr val="808080"/>
                </a:solidFill>
                <a:miter/>
              </a:ln>
              <a:solidFill>
                <a:srgbClr val="ffffff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Smudger LET"/>
              <a:ea typeface="Smudger LET"/>
            </a:endParaRPr>
          </a:p>
        </p:txBody>
      </p:sp>
    </p:spTree>
  </p:cSld>
  <p:transition spd="slow">
    <p:fade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14480" y="0"/>
            <a:ext cx="8893080" cy="68166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136520" y="-6480"/>
            <a:ext cx="6842160" cy="68421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47760" y="47520"/>
            <a:ext cx="8420040" cy="67629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128520"/>
            <a:ext cx="9144000" cy="66135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5T16:03:53Z</dcterms:created>
  <dc:creator>speedyexpress</dc:creator>
  <dc:description/>
  <dc:language>en-US</dc:language>
  <cp:lastModifiedBy>DenisTUBE</cp:lastModifiedBy>
  <dcterms:modified xsi:type="dcterms:W3CDTF">2011-06-03T09:49:00Z</dcterms:modified>
  <cp:revision>10</cp:revision>
  <dc:subject/>
  <dc:title>Diapositivo 1</dc:title>
</cp:coreProperties>
</file>