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450-58F5-4D74-8875-7557E5E8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348-A38F-41EA-AC6F-FE7ACC24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0B2-B4AB-4A1D-8638-0A2DCDE7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449E-DB2A-4DA0-9876-13383A95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C8D-C18F-4998-9E66-CF397CB0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7E9-CD84-4C84-A99B-16F6BF27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9C6-F61E-42AD-880E-373605EC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F47-B4A1-4B26-8025-660114C6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1D9-28EB-4E4E-8AB2-98914E7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B68-1389-42D3-9B64-7557F167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CFA-E609-447C-B514-7B327871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36F-EA71-420B-8DB4-2C6D48B7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D0BC-746D-43D0-AA91-3EB5FC82BD88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Enya%20-%20Amarantine%20-%2009%20-%20A%20Moment%20Lost.wav" TargetMode="External"/><Relationship Id="rId3" Type="http://schemas.microsoft.com/office/2007/relationships/media" Target="file:///tmp/home/.config/libreoffice/4/user/gallery/Enya%20-%20Amarantine%20-%2009%20-%20A%20Moment%20Lost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82920" y="3141720"/>
            <a:ext cx="2446560" cy="251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897120" y="549360"/>
            <a:ext cx="764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Afriq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La Magnifi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1" lang="pt-PT" sz="7200" spc="-1" strike="noStrike">
                <a:solidFill>
                  <a:srgbClr val="ffffff"/>
                </a:solidFill>
                <a:latin typeface="Britannic Bold"/>
              </a:rPr>
              <a:t>que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360" y="5805360"/>
            <a:ext cx="27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Photos en noir et 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de Nick Brand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36520" y="792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2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0400" y="0"/>
            <a:ext cx="559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520" y="1440"/>
            <a:ext cx="8642520" cy="688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28760" y="-1440"/>
            <a:ext cx="645948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00160" y="1440"/>
            <a:ext cx="6913440" cy="689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1760" y="-6480"/>
            <a:ext cx="8313480" cy="6872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4400" y="204840"/>
            <a:ext cx="9144000" cy="642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17720" y="-1440"/>
            <a:ext cx="528012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30280"/>
            <a:ext cx="9144000" cy="39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853920"/>
            <a:ext cx="914400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3680" y="15840"/>
            <a:ext cx="8713800" cy="679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2144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33360" y="0"/>
            <a:ext cx="8458200" cy="682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936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1560" y="0"/>
            <a:ext cx="6833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" y="11160"/>
            <a:ext cx="874692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612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5440" y="0"/>
            <a:ext cx="79372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27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50920" y="-1440"/>
            <a:ext cx="681516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29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01600" y="12600"/>
            <a:ext cx="6912000" cy="6834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36840" y="0"/>
            <a:ext cx="604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9080" y="3240"/>
            <a:ext cx="853740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840" y="1028880"/>
            <a:ext cx="85723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0" y="128520"/>
            <a:ext cx="910584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4840" y="0"/>
            <a:ext cx="816588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2320" y="0"/>
            <a:ext cx="547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144000" cy="458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19440" y="0"/>
            <a:ext cx="54781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87560" y="-1440"/>
            <a:ext cx="5140440" cy="686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27160" y="-1440"/>
            <a:ext cx="686268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0400" y="7920"/>
            <a:ext cx="7934400" cy="684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360" y="0"/>
            <a:ext cx="8137440" cy="682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33640" y="0"/>
            <a:ext cx="6849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35080" y="11160"/>
            <a:ext cx="6845400" cy="683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421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6114960" cy="4802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6156360" y="907920"/>
            <a:ext cx="233028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808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Smudger LET"/>
              </a:rPr>
              <a:t>Fin</a:t>
            </a:r>
            <a:endParaRPr b="0" lang="en-US" sz="1800" spc="1" strike="noStrike">
              <a:ln w="15840">
                <a:solidFill>
                  <a:srgbClr val="808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Smudger LET"/>
              <a:ea typeface="Smudger LET"/>
            </a:endParaRPr>
          </a:p>
        </p:txBody>
      </p:sp>
    </p:spTree>
  </p:cSld>
  <p:transition spd="slow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480" y="0"/>
            <a:ext cx="8893080" cy="681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36520" y="-6480"/>
            <a:ext cx="684216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7760" y="47520"/>
            <a:ext cx="8420040" cy="676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1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6:03:53Z</dcterms:created>
  <dc:creator>speedyexpress</dc:creator>
  <dc:description/>
  <dc:language>en-US</dc:language>
  <cp:lastModifiedBy>DenisTUBE</cp:lastModifiedBy>
  <dcterms:modified xsi:type="dcterms:W3CDTF">2011-06-03T09:49:00Z</dcterms:modified>
  <cp:revision>10</cp:revision>
  <dc:subject/>
  <dc:title>Diapositivo 1</dc:title>
</cp:coreProperties>
</file>