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4.jpeg" ContentType="image/jpeg"/>
  <Override PartName="/ppt/media/12.%20El%20Progreso.wav" ContentType="audio/x-wav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0AF-249B-46A9-8E1B-EFD0358B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4E4-7441-4055-B4E8-87EAE528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B75-FB2B-4643-B4E3-135A254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810-C3A5-4703-AFC5-ED0F8289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76C-BD54-4717-99B1-CCD021E6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701-2A64-488C-9488-6127A225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2F1-506F-4AE2-ABE4-856F091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07C-4D2F-4B42-9E53-24AD882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556-0BCB-43C6-BE5E-E5EC86E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79F-8C46-4795-8AB8-8DB2232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C62-31FE-4ACF-A3DD-AAEDCD8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86B-EAF2-4216-8648-92F11733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CAB-4CFD-4BC7-817D-DB61500F4B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2.%20El%20Progres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7000" y="368784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Script MT Bold"/>
              </a:rPr>
              <a:t>Roberto Car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2362320"/>
            <a:ext cx="495288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Times New Roman"/>
              </a:rPr>
              <a:t>El Progreso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Times New Roman"/>
              <a:ea typeface="Times New Roman"/>
            </a:endParaRPr>
          </a:p>
        </p:txBody>
      </p:sp>
    </p:spTree>
  </p:cSld>
  <p:transition spd="slow" advTm="5000">
    <p:fade/>
    <p:sndAc>
      <p:stSnd>
        <p:snd r:embed="rId2" name="12.%20El%20Progres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95280" y="20574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Yo quisiera no ver tanto verde</a:t>
            </a:r>
            <a:br>
              <a:rPr sz="2800"/>
            </a:b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en la tierra mur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98108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 en las aguas de ríos los peces desapareciendo.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9520" y="38098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gritar 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e tal oro negr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 es más que un negro vene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5120" y="213372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Ya sabemos que por t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dfd293"/>
                </a:solidFill>
                <a:latin typeface="Arial"/>
              </a:rPr>
              <a:t>eso vivimos ya menos.</a:t>
            </a:r>
            <a:r>
              <a:rPr b="0" lang="en-US" sz="18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48006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puedo aceptar ciertas cosa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ue ya no compren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6520" y="32004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 comercio de armas, de guerr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 muertes vivie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4114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Yo quisiera hablar de alegrí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n vez de tristeza, mas no soy capa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1280" y="31240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9"/>
                </a:solidFill>
                <a:latin typeface="Arial"/>
              </a:rPr>
              <a:t>como los anim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7432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2895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ser civilizado 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3760" y="2921040"/>
            <a:ext cx="46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o quisiera poder aplac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a fiera terr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78680" y="495288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886200"/>
            <a:ext cx="588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no estoy contra el progreso,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 existiera un buen cons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2760" y="502920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rrores no corrigen otros, eso es lo que pien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0" y="3276720"/>
            <a:ext cx="561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Yo quisiera poder transform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9"/>
                </a:solidFill>
                <a:latin typeface="Arial"/>
              </a:rPr>
              <a:t>tanta cosa impo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2934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Yo quisiera dec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tantas cosas que pudieran hacerme sentir bien con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1280" y="4722840"/>
            <a:ext cx="41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po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razar mi mayor enemi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360" y="2057400"/>
            <a:ext cx="48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Yo quisiera no ver tantas nub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a953"/>
                </a:solidFill>
                <a:latin typeface="Arial"/>
              </a:rPr>
              <a:t>oscuras ar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83240" y="2055960"/>
            <a:ext cx="519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Navegar sin hallar tantas manc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cc"/>
                </a:solidFill>
                <a:latin typeface="Arial"/>
              </a:rPr>
              <a:t>de aceite en los m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19810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 ballenas desapareciendo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r falta de escrúpulos comerc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251460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Yo quisiera ser civiliza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como los ani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33920" y="49528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o quisiera ser civiliz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mo los anim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0:15:05Z</dcterms:created>
  <dc:creator>Sylvette Rivera</dc:creator>
  <dc:description/>
  <dc:language>en-US</dc:language>
  <cp:lastModifiedBy>MONICA PFEIFFER</cp:lastModifiedBy>
  <dcterms:modified xsi:type="dcterms:W3CDTF">2007-06-20T13:27:40Z</dcterms:modified>
  <cp:revision>17</cp:revision>
  <dc:subject/>
  <dc:title>Diapositiva 1</dc:title>
</cp:coreProperties>
</file>