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4.jpeg" ContentType="image/jpeg"/>
  <Override PartName="/ppt/media/12.%20El%20Progreso.wav" ContentType="audio/x-wav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C0C-ADA7-49F6-85E8-51ACAF95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E94A-353B-44B3-BD97-6AEB0826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E8E2-6018-4F98-9568-1BD15CEA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D3CB-0E69-48C5-BB8E-89AC5482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6034-B4AC-4631-8CF6-BF105F1E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CE45-A0EA-4326-8957-8A80012B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7FB2-1BE8-4076-A00C-E7412229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9BF4-4E01-4AF8-A99B-963C62BF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D4A8-AC34-4B07-96DB-C3D01834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D701-3272-4A51-94C8-BAE9A98E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0DF8-8D73-4BCE-B5F9-AEA66030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379C-73CA-4A07-9228-0E2F30CB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121E-51A6-480F-A774-AA3E00FD40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2.%20El%20Progres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97000" y="3687840"/>
            <a:ext cx="302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Script MT Bold"/>
              </a:rPr>
              <a:t>Roberto Car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7400" y="2362320"/>
            <a:ext cx="4952880" cy="12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Times New Roman"/>
              </a:rPr>
              <a:t>El Progreso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Times New Roman"/>
              <a:ea typeface="Times New Roman"/>
            </a:endParaRPr>
          </a:p>
        </p:txBody>
      </p:sp>
    </p:spTree>
  </p:cSld>
  <p:transition spd="slow" advTm="5000">
    <p:fade/>
    <p:sndAc>
      <p:stSnd>
        <p:snd r:embed="rId2" name="12.%20El%20Progres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95280" y="205740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Yo quisiera no ver tanto verde</a:t>
            </a:r>
            <a:br>
              <a:rPr sz="2800"/>
            </a:b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en la tierra muriend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19320" y="1981080"/>
            <a:ext cx="656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Y en las aguas de ríos los peces desapareciendo.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19520" y="38098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quisiera gritar q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se tal oro negro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o es más que un negro vene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5120" y="2133720"/>
            <a:ext cx="390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fd293"/>
                </a:solidFill>
                <a:latin typeface="Arial"/>
              </a:rPr>
              <a:t>Ya sabemos que por to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dfd293"/>
                </a:solidFill>
                <a:latin typeface="Arial"/>
              </a:rPr>
              <a:t>eso vivimos ya menos.</a:t>
            </a:r>
            <a:r>
              <a:rPr b="0" lang="en-US" sz="18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00200" y="4800600"/>
            <a:ext cx="59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no puedo aceptar ciertas cosas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ue ya no compren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76520" y="3200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l comercio de armas, de guerr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e muertes viviend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411480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Yo quisiera hablar de alegrí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en vez de tristeza, mas no soy capa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1280" y="312408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9"/>
                </a:solidFill>
                <a:latin typeface="Arial"/>
              </a:rPr>
              <a:t>Yo quisiera ser civiliza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9"/>
                </a:solidFill>
                <a:latin typeface="Arial"/>
              </a:rPr>
              <a:t>como los animal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27432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Yo quisiera ser civilizado como los ani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29000" y="28954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Yo quisiera ser civilizado como los ani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73760" y="2921040"/>
            <a:ext cx="462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Yo quisiera poder aplac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una fiera terr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143000"/>
            <a:ext cx="58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no estoy contra el progreso,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i existiera un buen consen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78680" y="4952880"/>
            <a:ext cx="395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rores no corrigen otr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so es lo que pien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00200" y="3886200"/>
            <a:ext cx="58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no estoy contra el progreso,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i existiera un buen consen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2760" y="5029200"/>
            <a:ext cx="71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rores no corrigen otros, eso es lo que pien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24400" y="3276720"/>
            <a:ext cx="561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9"/>
                </a:solidFill>
                <a:latin typeface="Arial"/>
              </a:rPr>
              <a:t>Yo quisiera poder transform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9"/>
                </a:solidFill>
                <a:latin typeface="Arial"/>
              </a:rPr>
              <a:t>tanta cosa impos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29348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Arial"/>
              </a:rPr>
              <a:t>Yo quisiera deci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Arial"/>
              </a:rPr>
              <a:t>tantas cosas que pudieran hacerme sentir bien conmi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1280" y="4722840"/>
            <a:ext cx="412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quisiera pod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brazar mi mayor enemi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360" y="2057400"/>
            <a:ext cx="487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a953"/>
                </a:solidFill>
                <a:latin typeface="Arial"/>
              </a:rPr>
              <a:t>Yo quisiera no ver tantas nub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a953"/>
                </a:solidFill>
                <a:latin typeface="Arial"/>
              </a:rPr>
              <a:t>oscuras arri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83240" y="2055960"/>
            <a:ext cx="519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Arial"/>
              </a:rPr>
              <a:t>Navegar sin hallar tantas manch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Arial"/>
              </a:rPr>
              <a:t>de aceite en los ma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19810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 ballenas desapareciendo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or falta de escrúpulos comerci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76720" y="251460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Yo quisiera ser civiliza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como los ani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733920" y="49528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quisiera ser civiliza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mo los anim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00:15:05Z</dcterms:created>
  <dc:creator>Sylvette Rivera</dc:creator>
  <dc:description/>
  <dc:language>en-US</dc:language>
  <cp:lastModifiedBy>MONICA PFEIFFER</cp:lastModifiedBy>
  <dcterms:modified xsi:type="dcterms:W3CDTF">2007-06-20T13:27:40Z</dcterms:modified>
  <cp:revision>17</cp:revision>
  <dc:subject/>
  <dc:title>Diapositiva 1</dc:title>
</cp:coreProperties>
</file>