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Corcovado%20(Quiet%20Nights)%20-%20Astrud%20Gilberto.wav" ContentType="audio/x-wav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B7B-F36F-4439-9297-B0650FBB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3A5-4BEB-44C1-98AA-DE4DC6BA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051-1B7C-44A8-87BB-4D797DD5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3F8-AAB7-4B0F-A1DD-57965B18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BBA-A357-4AC8-B9DD-D1AE3F9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EFF-E3F5-4292-BDA6-E20B20B0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46C-1262-4595-BFCC-29E76E64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96E-183E-4E16-B7A1-D7A53856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06D-D6AA-45C8-9FDE-C64ECF04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3D4-11FE-484D-A5EF-278D4266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79B-8B0B-47F6-8248-46FD2C7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878-AF12-4DE7-8288-8012957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AF87-D48C-4941-BAEA-C052203F5E9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covado%20(Quiet%20Nights)%20-%20Astrud%20Gilber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Cristo Redentor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Río de Janeiro, Brasil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825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n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iete Nuevas Maravillas d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orcovado%20(Quiet%20Nights)%20-%20Astrud%20Gilber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431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¡Qué bellez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14440" y="0"/>
            <a:ext cx="4515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81680" y="1371600"/>
            <a:ext cx="2362320" cy="4191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La estatua tiene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ltura de 125 p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(38 metros) y est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situada en la c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la montaña Corcov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 2,330 pies (710 metr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al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Playas Copacabana &amp; Ipanema..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079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1960" y="0"/>
            <a:ext cx="622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La capa exterior de la estatua esta compuesta de esteatita, que es re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a elevadas temperaturas y a la intemper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8000"/>
          </a:blip>
          <a:srcRect l="0" t="0" r="24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4320" y="6400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16000" y="1844640"/>
            <a:ext cx="6912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 regalo de brasil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a el mundo!!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La Estatua de Cristo Redentor en la cima de la montaña de Corcovado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bendiciendo la ciudad de Rí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2491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68560" y="336708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Pan de Azúc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4680" y="2757600"/>
            <a:ext cx="69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Corcov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Se llega por coche o por teleférico, atravesando el bos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qui se puede divisar el camino hacia la ci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Vista desde la cima de Pão de Açúc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4876920"/>
            <a:ext cx="190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oten que la luna parece estar boca-abajo en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6237360"/>
            <a:ext cx="180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00"/>
                </a:solidFill>
                <a:latin typeface="Comic Sans MS"/>
              </a:rPr>
              <a:t>La foto NO es un monta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3:55:29Z</dcterms:created>
  <dc:creator/>
  <dc:description/>
  <dc:language>en-US</dc:language>
  <cp:lastModifiedBy>S</cp:lastModifiedBy>
  <dcterms:modified xsi:type="dcterms:W3CDTF">2007-11-27T21:10:59Z</dcterms:modified>
  <cp:revision>67</cp:revision>
  <dc:subject/>
  <dc:title/>
</cp:coreProperties>
</file>