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Corcovado%20(Quiet%20Nights)%20-%20Astrud%20Gilberto.wav" ContentType="audio/x-wav"/>
  <Override PartName="/ppt/media/image16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0185-5E63-4A88-8264-AFD5C0A9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3C6B-8AAD-4BC7-8A72-080B5049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81B9-0B94-427E-AF8A-7DC806DD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53D2-F4A6-427E-ADA3-ACE8F9A2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BCC-AE92-4B91-888F-5541D23E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9CC1-94B0-4547-8226-5F98DBE8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B34-0539-447A-9795-8893D79C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7930-6C10-449E-BE05-EC534543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B1E6-CACD-4B0D-ABF4-863974BD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D83-ED9D-470A-9E99-39557554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9092-3B52-4567-8899-8899EAB1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B761-79CE-40D6-91F8-86E542AA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CF5F-6438-4AA4-8511-9179ED00C7C2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rcovado%20(Quiet%20Nights)%20-%20Astrud%20Gilbert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2503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808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3300"/>
                </a:solidFill>
                <a:latin typeface="Comic Sans MS"/>
              </a:rPr>
              <a:t>Cristo Redentor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3300"/>
                </a:solidFill>
                <a:latin typeface="Comic Sans MS"/>
              </a:rPr>
              <a:t>Río de Janeiro, Brasil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8254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Una d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Siete Nuevas Maravillas del M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orcovado%20(Quiet%20Nights)%20-%20Astrud%20Gilbert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4310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¡Qué bellez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14440" y="0"/>
            <a:ext cx="45151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781680" y="1371600"/>
            <a:ext cx="2362320" cy="4191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La estatua tiene u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altura de 125 p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(38 metros) y est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situada en la c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de la montaña Corcovad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a 2,330 pies (710 metr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de al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Playas Copacabana &amp; Ipanema..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01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079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249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61960" y="0"/>
            <a:ext cx="6220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40080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</a:rPr>
              <a:t>La capa exterior de la estatua esta compuesta de esteatita, que es resis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</a:rPr>
              <a:t>a elevadas temperaturas y a la intemperi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contrast="18000"/>
          </a:blip>
          <a:srcRect l="0" t="0" r="249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934320" y="6400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116000" y="1844640"/>
            <a:ext cx="691200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un regalo de brasil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ara el mundo!!..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2503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La Estatua de Cristo Redentor en la cima de la montaña de Corcovado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2503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... bendiciendo la ciudad de Rí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2491" b="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68560" y="3367080"/>
            <a:ext cx="86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Pan de Azúc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4680" y="2757600"/>
            <a:ext cx="69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Corcov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2497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Se llega por coche o por teleférico, atravesando el bosq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Aqui se puede divisar el camino hacia la cim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Vista desde la cima de Pão de Açúc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3340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238880" y="4876920"/>
            <a:ext cx="190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Noten que la luna parece estar boca-abajo en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6237360"/>
            <a:ext cx="1809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00"/>
                </a:solidFill>
                <a:latin typeface="Comic Sans MS"/>
              </a:rPr>
              <a:t>La foto NO es un montaj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23:55:29Z</dcterms:created>
  <dc:creator/>
  <dc:description/>
  <dc:language>en-US</dc:language>
  <cp:lastModifiedBy>S</cp:lastModifiedBy>
  <dcterms:modified xsi:type="dcterms:W3CDTF">2007-11-27T21:10:59Z</dcterms:modified>
  <cp:revision>67</cp:revision>
  <dc:subject/>
  <dc:title/>
</cp:coreProperties>
</file>