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508-80B0-4FA8-B8C1-A92C7BC3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321-A2F3-4897-BB49-3DCE2501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686-442E-4F10-8C24-CDCD3403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8DE-3288-494D-A2E7-A5C79D0F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BCE-19EF-4914-ADED-7AE014B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BE9-0FDA-4207-AA09-121993AC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921-56E9-44A2-8BE0-CA023A4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6A6-B32A-4F46-BB78-960188A0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9B0-EDC8-4564-A92C-F1543E5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F8E-EE98-4ADB-9B69-640248F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01F-E8E0-4380-ADE0-BA48E16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BE7-B21E-42A1-B837-358EA62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0891-0B4E-4978-8875-EB1970AD4DA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nya%20-%20Amarantine%20-%2009%20-%20A%20Moment%20Lost.wav" TargetMode="External"/><Relationship Id="rId3" Type="http://schemas.microsoft.com/office/2007/relationships/media" Target="file:///tmp/home/.config/libreoffice/4/user/gallery/Enya%20-%20Amarantine%20-%2009%20-%20A%20Moment%20Lo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82920" y="3141720"/>
            <a:ext cx="2446560" cy="25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897120" y="54936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Afriq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La Magnifi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q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360" y="580536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Photos en noir e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Nick Bran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36520" y="792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520" y="1440"/>
            <a:ext cx="864252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28760" y="-1440"/>
            <a:ext cx="645948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40"/>
            <a:ext cx="691344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31348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0" y="2048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7720" y="-1440"/>
            <a:ext cx="528012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" y="15840"/>
            <a:ext cx="871380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214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845820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1560" y="0"/>
            <a:ext cx="683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11160"/>
            <a:ext cx="874692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372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50920" y="-1440"/>
            <a:ext cx="681516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29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2600"/>
            <a:ext cx="691200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60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080" y="3240"/>
            <a:ext cx="85374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1028880"/>
            <a:ext cx="85723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128520"/>
            <a:ext cx="9105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816588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19440" y="0"/>
            <a:ext cx="547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7560" y="-1440"/>
            <a:ext cx="514044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-1440"/>
            <a:ext cx="68626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7920"/>
            <a:ext cx="79344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0"/>
            <a:ext cx="8137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5080" y="11160"/>
            <a:ext cx="68454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4960" cy="480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56360" y="907920"/>
            <a:ext cx="23302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mudger LET"/>
              </a:rPr>
              <a:t>Fin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mudger LET"/>
              <a:ea typeface="Smudger LET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88930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-648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7760" y="47520"/>
            <a:ext cx="8420040" cy="676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03:53Z</dcterms:created>
  <dc:creator>speedyexpress</dc:creator>
  <dc:description/>
  <dc:language>en-US</dc:language>
  <cp:lastModifiedBy>DenisTUBE</cp:lastModifiedBy>
  <dcterms:modified xsi:type="dcterms:W3CDTF">2011-06-03T09:49:00Z</dcterms:modified>
  <cp:revision>10</cp:revision>
  <dc:subject/>
  <dc:title>Diapositivo 1</dc:title>
</cp:coreProperties>
</file>