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71E-90ED-46EC-B47E-0672D1F5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498-67FF-4FF4-B454-E8041866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7454-3C90-46EA-B990-58C08D78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430-7B0B-488D-B706-264AB9BF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0AF-10E2-4730-873B-2124B800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2ED-E815-4801-8A3A-10C3886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150-0D86-49B8-A9D6-679C17D2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31D-BE94-49C2-8E48-AB2CACBA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C2B-8F1A-4833-A419-7BD81709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912A-411E-4209-B449-D5B3185C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684-D0CA-4B9E-B035-4F6261C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CB5-22F1-43F4-A247-1D025440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7E66-5E83-4DD4-80AC-3FD21BEB75A4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nya%20-%20Amarantine%20-%2009%20-%20A%20Moment%20Lost.wav" TargetMode="External"/><Relationship Id="rId3" Type="http://schemas.microsoft.com/office/2007/relationships/media" Target="file:///tmp/home/.config/libreoffice/4/user/gallery/Enya%20-%20Amarantine%20-%2009%20-%20A%20Moment%20Los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82920" y="3141720"/>
            <a:ext cx="2446560" cy="251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897120" y="549360"/>
            <a:ext cx="764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Afriq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La Magnifi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qu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360" y="5805360"/>
            <a:ext cx="27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Photos en noir et 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de Nick Brand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36520" y="792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2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04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520" y="1440"/>
            <a:ext cx="864252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28760" y="-1440"/>
            <a:ext cx="645948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00160" y="1440"/>
            <a:ext cx="6913440" cy="689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1760" y="-6480"/>
            <a:ext cx="831348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4400" y="204840"/>
            <a:ext cx="9144000" cy="642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17720" y="-1440"/>
            <a:ext cx="528012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3680" y="15840"/>
            <a:ext cx="8713800" cy="679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2144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3360" y="0"/>
            <a:ext cx="8458200" cy="682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936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1560" y="0"/>
            <a:ext cx="6833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" y="11160"/>
            <a:ext cx="874692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372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27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50920" y="-1440"/>
            <a:ext cx="681516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29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2600"/>
            <a:ext cx="6912000" cy="683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36840" y="0"/>
            <a:ext cx="60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9080" y="3240"/>
            <a:ext cx="853740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840" y="1028880"/>
            <a:ext cx="85723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0" y="128520"/>
            <a:ext cx="910584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4840" y="0"/>
            <a:ext cx="816588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232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458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19440" y="0"/>
            <a:ext cx="5478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7560" y="-1440"/>
            <a:ext cx="514044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27160" y="-1440"/>
            <a:ext cx="686268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0400" y="7920"/>
            <a:ext cx="793440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360" y="0"/>
            <a:ext cx="813744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35080" y="11160"/>
            <a:ext cx="684540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421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6114960" cy="4802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56360" y="907920"/>
            <a:ext cx="23302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mudger LET"/>
              </a:rPr>
              <a:t>Fin</a:t>
            </a:r>
            <a:endParaRPr b="0" lang="en-US" sz="1800" spc="1" strike="noStrike">
              <a:ln w="158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mudger LET"/>
              <a:ea typeface="Smudger LET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88930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36520" y="-648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7760" y="47520"/>
            <a:ext cx="8420040" cy="676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1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03:53Z</dcterms:created>
  <dc:creator>speedyexpress</dc:creator>
  <dc:description/>
  <dc:language>en-US</dc:language>
  <cp:lastModifiedBy>DenisTUBE</cp:lastModifiedBy>
  <dcterms:modified xsi:type="dcterms:W3CDTF">2011-06-03T09:49:00Z</dcterms:modified>
  <cp:revision>10</cp:revision>
  <dc:subject/>
  <dc:title>Diapositivo 1</dc:title>
</cp:coreProperties>
</file>